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F56DA-41E9-4840-94B5-85140F4F52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5876A-9963-45E6-9544-74DB24807C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F8C8F-D743-482D-BDA5-AAE7AFBFEC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A4D98-7E5F-4009-94E2-C2FB5C0870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6C3E-95F9-445A-9838-6A6168B350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96637-6849-42A0-984C-7252F12F44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2F84B-6E6D-4477-A457-61795A9902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F614C-4B37-4C2A-8F01-83D78A2069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266E8-542F-4227-8BFD-EB1713112F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2315A-154C-4F68-BA1D-077CDDBC96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BDBC-B5F1-4C26-B02D-40B07346B5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97BE-8C19-417A-AF38-08A73EC10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73B2-AC50-456D-A374-85AC868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81CC-22AE-4613-9656-0A857C0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3641-D7E6-4840-AC6E-97D440279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7A18-85E0-4042-8147-63DCDB88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71DD-A18A-4042-A8F6-04A9D36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B415-F9F1-46BE-B765-31A1604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16ED-EC5C-4344-8BF5-D561F43F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14F7-B003-4934-A372-D3EA3921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5046-FC77-437F-933C-3699AD3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2510-3A1C-4BF1-9B4F-8A160E53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2F25-5790-415F-9BD4-AAD5B8C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6D501A-B17F-4AA1-ADCE-867915170C2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CLASIFICACIÓN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50920" y="5589720"/>
            <a:ext cx="32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1835280" y="3068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LANT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SEMI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3348000" y="508464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IMNOSPE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6659640" y="508464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GIOSPE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66 Grupo"/>
          <p:cNvGrpSpPr/>
          <p:nvPr/>
        </p:nvGrpSpPr>
        <p:grpSpPr>
          <a:xfrm>
            <a:off x="2771640" y="1700280"/>
            <a:ext cx="3456000" cy="1368360"/>
            <a:chOff x="2771640" y="1700280"/>
            <a:chExt cx="3456000" cy="1368360"/>
          </a:xfrm>
        </p:grpSpPr>
        <p:sp>
          <p:nvSpPr>
            <p:cNvPr id="73" name="Freeform 10"/>
            <p:cNvSpPr/>
            <p:nvPr/>
          </p:nvSpPr>
          <p:spPr>
            <a:xfrm>
              <a:off x="4499640" y="1700280"/>
              <a:ext cx="1440" cy="50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" h="1399">
                  <a:moveTo>
                    <a:pt x="0" y="0"/>
                  </a:moveTo>
                  <a:lnTo>
                    <a:pt x="5" y="1398"/>
                  </a:lnTo>
                </a:path>
              </a:pathLst>
            </a:custGeom>
            <a:noFill/>
            <a:ln w="25560">
              <a:solidFill>
                <a:srgbClr val="579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36 CuadroTexto"/>
            <p:cNvSpPr/>
            <p:nvPr/>
          </p:nvSpPr>
          <p:spPr>
            <a:xfrm>
              <a:off x="3131640" y="213228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 clasifican 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41 Conector recto"/>
            <p:cNvSpPr/>
            <p:nvPr/>
          </p:nvSpPr>
          <p:spPr>
            <a:xfrm>
              <a:off x="4499640" y="2492640"/>
              <a:ext cx="0" cy="28800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51 Conector recto"/>
            <p:cNvSpPr/>
            <p:nvPr/>
          </p:nvSpPr>
          <p:spPr>
            <a:xfrm flipV="1">
              <a:off x="2771640" y="2780640"/>
              <a:ext cx="0" cy="28800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52 Conector recto"/>
            <p:cNvSpPr/>
            <p:nvPr/>
          </p:nvSpPr>
          <p:spPr>
            <a:xfrm flipV="1">
              <a:off x="6227640" y="2780640"/>
              <a:ext cx="0" cy="28800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54 Conector recto"/>
            <p:cNvSpPr/>
            <p:nvPr/>
          </p:nvSpPr>
          <p:spPr>
            <a:xfrm>
              <a:off x="2771640" y="2780640"/>
              <a:ext cx="3456000" cy="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67 Grupo"/>
          <p:cNvGrpSpPr/>
          <p:nvPr/>
        </p:nvGrpSpPr>
        <p:grpSpPr>
          <a:xfrm>
            <a:off x="4356000" y="3645000"/>
            <a:ext cx="3384720" cy="1438920"/>
            <a:chOff x="4356000" y="3645000"/>
            <a:chExt cx="3384720" cy="1438920"/>
          </a:xfrm>
        </p:grpSpPr>
        <p:sp>
          <p:nvSpPr>
            <p:cNvPr id="80" name="Freeform 10"/>
            <p:cNvSpPr/>
            <p:nvPr/>
          </p:nvSpPr>
          <p:spPr>
            <a:xfrm>
              <a:off x="6228360" y="3645000"/>
              <a:ext cx="1440" cy="502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6" h="1399">
                  <a:moveTo>
                    <a:pt x="0" y="0"/>
                  </a:moveTo>
                  <a:lnTo>
                    <a:pt x="5" y="1398"/>
                  </a:lnTo>
                </a:path>
              </a:pathLst>
            </a:custGeom>
            <a:noFill/>
            <a:ln w="25560">
              <a:solidFill>
                <a:srgbClr val="579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37 CuadroTexto"/>
            <p:cNvSpPr/>
            <p:nvPr/>
          </p:nvSpPr>
          <p:spPr>
            <a:xfrm>
              <a:off x="4860000" y="4148640"/>
              <a:ext cx="26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ue pueden 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57 Conector recto"/>
            <p:cNvSpPr/>
            <p:nvPr/>
          </p:nvSpPr>
          <p:spPr>
            <a:xfrm flipV="1">
              <a:off x="4356000" y="4796280"/>
              <a:ext cx="0" cy="28764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59 Conector recto"/>
            <p:cNvSpPr/>
            <p:nvPr/>
          </p:nvSpPr>
          <p:spPr>
            <a:xfrm flipV="1">
              <a:off x="7740720" y="4796280"/>
              <a:ext cx="0" cy="28764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64 Conector recto"/>
            <p:cNvSpPr/>
            <p:nvPr/>
          </p:nvSpPr>
          <p:spPr>
            <a:xfrm>
              <a:off x="4356000" y="4796640"/>
              <a:ext cx="3384720" cy="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65 Conector recto"/>
            <p:cNvSpPr/>
            <p:nvPr/>
          </p:nvSpPr>
          <p:spPr>
            <a:xfrm flipV="1">
              <a:off x="6228360" y="4508280"/>
              <a:ext cx="0" cy="28764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AutoShape 15"/>
          <p:cNvSpPr/>
          <p:nvPr/>
        </p:nvSpPr>
        <p:spPr>
          <a:xfrm>
            <a:off x="5219640" y="3068640"/>
            <a:ext cx="1908360" cy="93672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LANT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MI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456000" y="90792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PLA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891160" cy="405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468360" y="2476440"/>
            <a:ext cx="2951280" cy="3492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1268280"/>
            <a:ext cx="777564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ecen de flores y tampoco producen frutos ni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producción es alternante y su propagación, por espo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representantes comunes son los musgos y los helech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lantas sin sem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340000" y="5084640"/>
            <a:ext cx="1440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s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859280" y="5157720"/>
            <a:ext cx="1440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lech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1 Imagen" descr="ccnn1_04_pino.jpg"/>
          <p:cNvPicPr/>
          <p:nvPr/>
        </p:nvPicPr>
        <p:blipFill>
          <a:blip r:embed="rId1"/>
          <a:stretch/>
        </p:blipFill>
        <p:spPr>
          <a:xfrm>
            <a:off x="2700360" y="3141720"/>
            <a:ext cx="5938920" cy="3319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34920" y="1125360"/>
            <a:ext cx="82090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flores son poco vistosas y, casi siempre, se agrupan en unas estructuras llamadas conos, a menudo con los sexos sepa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roducen frutos, sino que los conos femeninos maduran, se transforman en piñas y albergan las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gimnospermas los pinos, los abetos, los enebr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Gimnospe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50920" y="6021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24000" y="5516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3 CuadroTexto"/>
          <p:cNvSpPr/>
          <p:nvPr/>
        </p:nvSpPr>
        <p:spPr>
          <a:xfrm>
            <a:off x="539640" y="3789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 femeni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14 CuadroTexto"/>
          <p:cNvSpPr/>
          <p:nvPr/>
        </p:nvSpPr>
        <p:spPr>
          <a:xfrm>
            <a:off x="971640" y="5300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 masculi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16 Conector recto"/>
          <p:cNvSpPr/>
          <p:nvPr/>
        </p:nvSpPr>
        <p:spPr>
          <a:xfrm flipH="1" flipV="1">
            <a:off x="2268360" y="4005360"/>
            <a:ext cx="17272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18 Conector recto"/>
          <p:cNvSpPr/>
          <p:nvPr/>
        </p:nvSpPr>
        <p:spPr>
          <a:xfrm flipH="1" flipV="1">
            <a:off x="2626920" y="5589720"/>
            <a:ext cx="1297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2 CuadroTexto"/>
          <p:cNvSpPr/>
          <p:nvPr/>
        </p:nvSpPr>
        <p:spPr>
          <a:xfrm>
            <a:off x="1042920" y="472428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mi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4 Conector recto"/>
          <p:cNvSpPr/>
          <p:nvPr/>
        </p:nvSpPr>
        <p:spPr>
          <a:xfrm flipH="1" flipV="1">
            <a:off x="2050560" y="494136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"/>
          <p:cNvSpPr/>
          <p:nvPr/>
        </p:nvSpPr>
        <p:spPr>
          <a:xfrm>
            <a:off x="324000" y="5445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11 Imagen" descr="ccnn1_04_almendro.jpg"/>
          <p:cNvPicPr/>
          <p:nvPr/>
        </p:nvPicPr>
        <p:blipFill>
          <a:blip r:embed="rId1"/>
          <a:stretch/>
        </p:blipFill>
        <p:spPr>
          <a:xfrm>
            <a:off x="2050920" y="2492280"/>
            <a:ext cx="6678720" cy="37324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9640" y="1268280"/>
            <a:ext cx="831708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flores suelen ser vistosas y producen frutos para albergar las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muy diversas, desde pequeñas herbáceas hasta grandes árbo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71640" y="76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giospe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50920" y="5950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12 CuadroTexto"/>
          <p:cNvSpPr/>
          <p:nvPr/>
        </p:nvSpPr>
        <p:spPr>
          <a:xfrm>
            <a:off x="539640" y="35002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mill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13 CuadroTexto"/>
          <p:cNvSpPr/>
          <p:nvPr/>
        </p:nvSpPr>
        <p:spPr>
          <a:xfrm>
            <a:off x="539640" y="45813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or con androce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ginece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5 Conector recto"/>
          <p:cNvSpPr/>
          <p:nvPr/>
        </p:nvSpPr>
        <p:spPr>
          <a:xfrm flipH="1" flipV="1">
            <a:off x="2050560" y="4941360"/>
            <a:ext cx="1225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7 Conector recto"/>
          <p:cNvSpPr/>
          <p:nvPr/>
        </p:nvSpPr>
        <p:spPr>
          <a:xfrm flipH="1">
            <a:off x="1476360" y="3429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7:00Z</dcterms:modified>
  <cp:revision>56</cp:revision>
  <dc:subject/>
  <dc:title>Diapositiva 1</dc:title>
</cp:coreProperties>
</file>